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B87-6FDA-4137-BE46-D5049F9D01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8186-7128-4905-B135-7D31A0D61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0130-A064-43DB-BCD8-E3238A720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ABEC-B93A-4EF1-9558-BC0525CE8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9593-8A1E-44C7-80E0-59F971B35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7249-0371-436E-81E0-9C557788D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3020-697A-4B79-891D-D3B7963E4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0BC-9B8B-4BB4-8CED-E75485A44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D66A-E137-44E7-A209-A15D0BD54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1ECD-B564-4471-8509-7EB9ACA45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A99A-DA81-4583-86B0-639DA6BC1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8E9F-655F-4E5D-8C4E-105D79522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5984-371F-410E-B2B1-2C0339DAF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184D-A246-4681-B961-FE0D25A04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A497-D58A-49DE-816E-09C0FEDD9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2AD7-3F02-4054-933F-6FDD88109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205B-5D5F-4199-A2D3-23B3E2F9A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004B-169D-470B-8D7F-35F6A8766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1264-CA19-4672-A0B2-1A81A9340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1E4-8972-4332-929A-B03E5DF4B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F235-AD0A-4122-885A-AC1EC096C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146D-83E3-4BDA-B3E4-48635385F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3A7-FC58-4DB1-8EF5-A806B412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645-6C03-4AE8-9A84-DA2554F0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73DCB-10B6-40B5-9294-D8ED4CF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9F3A0-4A86-41B8-B165-1A9447AB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420F7D-782E-41BE-81AC-8FBEB2AD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4452C-C5E7-408B-A9CF-4ED4AA8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210CC2-973D-474E-8A63-85B8F10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B787F-5455-439C-8894-318DC2C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0286FA-22C5-4F64-AE19-E5BC259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75F61-3CFE-4D39-A69A-67D85836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4E063-9477-4782-A2C0-FD8BC48D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74CEC-DCC3-4BF9-8B6C-AF03C77D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6D5-58BD-499F-9916-44134F40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F6C9B-CFB3-40DC-8EA8-C87462F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C2B6D-2D21-45DA-8085-F7ED9DC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FE01A-41B1-4424-A453-073935A9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75C2C-0C8A-4422-A3FD-E1B9DE61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203ED-5903-4E22-86BD-47E9F51C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E8DFE-F2C9-4841-BC52-96A5C0E8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541D4-9B0E-4690-950D-91BFADB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6629A-6539-4E58-808E-F72E4F1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11BEF-FA5D-4AD0-94AA-F9EF3F8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52DBF-2B10-49D9-AD58-62F4D6D9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EAE-F6A1-46EF-868C-6600F8BD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A1552-B7A3-44DC-9C6A-918B8B2B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D6926-4F27-4227-8916-FE302FD8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FFDDF-5444-4A1C-B7C2-56E107F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E59EE-B966-43FB-B044-55943C2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5BAE7-A4B0-46FE-BC08-C185837E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43F8-652E-414B-894A-FDDC87E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F40F6-E0D5-4E02-B091-849E8D5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CF66D-4D70-487D-BBB2-B300D83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F7911-593D-484B-A407-EE66CA0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02BC-F6FA-4037-A9AB-0C8B488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AE10-D26A-435D-B735-91412F7E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2A5F0-D51D-4D7A-9C1E-5F4F86CC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F71F5-D705-49EC-88EF-D3384EC5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B76F4-E316-4110-BBBF-A42405D7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284F-6DFB-43F7-B33B-3B21C082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49C8-B21D-4E49-A812-3755ABFE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94B0-F1DF-4496-8B12-B478A837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57DB-57E3-46C5-BA38-5BBDB84B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45E8-DBC8-4B93-B9BB-9733EC28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3169-BE88-496B-BDF3-EE81E5D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3F2-20AB-4D38-9591-B9A1EA9D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AEFE-DFE7-4A4F-B84C-ABA3C29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6516-9329-4127-9B26-6430DBA7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6CBF-D395-4090-BF2F-B5B73E0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4A8F-C097-4B76-9F52-7CA35EA6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C5F-B986-4928-81AC-E89A671D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AAFD-B749-4E92-AC07-32308C11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4121-A23E-41DB-8AF8-B236A280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ECF1-E18D-4E77-86DC-CCA19302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E906-943A-4863-AB28-18904CDA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7BE4-A7C6-417B-9A6C-FBFA6AD4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C0C-C9AB-4922-9F05-2645F9AC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5C4B-D28E-462E-A8EB-F04AC425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FFAA-D29E-47FE-B6D1-7A0418F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AAAB9-E0ED-4F65-8EBC-A296815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E4FA-E733-467E-99E7-4282BBA6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5843F-28B4-4BBB-8E28-9A47BCB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9CD6-77CE-4434-8DD6-A1184218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3609-AE51-4F5B-BAD0-7EB155A9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3564E-2ACC-4709-B100-86E0CBA4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DB95C-62DD-4E33-9369-E4144648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6629E-D7D6-4626-980A-F687C25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2CE-57A8-4FD4-BF65-27F7E065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74135-4FB1-46E1-A588-6C259C1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E4866-66C0-44AC-A55C-A610124A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46793-F6FC-4B1B-A910-145939EB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F5F60-DCD2-4204-AEF8-7538FE70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FEE8A-D740-4FD7-B288-620D1C43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2626D-C179-4C7E-957B-7620181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AC507-00B2-48FB-836F-BED7250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B0499-96AD-4249-A874-01DF38CE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DB3B6-67F0-4DF2-B6DF-D2D489CA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EBA58-22A3-4ADB-969E-1BA1971F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0C7-9009-4794-A649-0317D57F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657C8-BCED-4283-93B0-C6E0A870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0DEB9-2CC6-4B81-A3E8-D88DE928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406BF-4C4F-4187-8421-492B3DAE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166A6-7A12-4E09-9496-29AA1EF1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D591D-EB17-4A10-8E74-757B652E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DBD1B-3717-4689-9AA5-C05E774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88C56-3CD6-430F-A95F-45AEE5A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940C4-E68A-4E6B-AEF5-031D9BA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424EB-AE23-4BFE-976F-6499006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B5114-AB44-4CC7-BD30-B58F92FF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B40-12D5-46C7-AF50-A7D50AAD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5D630-D412-4D9D-9B3D-C303893B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4EE3-984C-48F5-A1E4-2287F31F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7FE1-DCF3-4FFB-B86F-BF911186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DAA5E-9006-4351-8786-570AA92B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7892B-B62B-4A2E-9A99-59C54B8F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D66B4-DEB6-433C-B0B9-D77CB768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437AA-3C5B-44CD-B8B0-2F1C49F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26055-66B5-4AE6-9FC1-AB27E78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F6C14-D6B6-4F1C-81C6-24245BC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55EB-65B8-4436-8B54-32ADFDE3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4EB-DAA6-4C84-8DFC-22A0006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B879-F671-4809-ADCB-F7C3FA86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FE30-0082-49A1-97B1-52A79C94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5AB06-7979-4524-A003-B21F626C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6F7C-68FE-4509-8155-EEA2EFD6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CCA4-5A72-4A77-ADFB-CD2E8C44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BE41-3871-44D1-AD28-6EBFF7A4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8D30B-DDD6-4CAC-A31D-0A9A08C6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C322A-6ECB-48D6-9348-2B928EF8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0123-D2EB-4D0B-B1E0-0BC0BC62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E44E2-D0CE-428A-B735-CDD637A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9A1-6C25-4C20-83CF-76FC8FA7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15BB5-F660-4582-B8E6-52E1EA1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5DDC-2F21-4CF2-AAD0-1EC74FB3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12D3-8527-48D2-A9E7-8E74A519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E5324-D3AD-4046-A087-997F2513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7173F-5283-44FD-BD6D-EA9B2601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0EE56-3D1B-4268-93BC-45851519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0B0E1-EC2A-47A7-A99C-C569932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68A1E-FD85-47E4-BC72-E88AC08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AB64E-9D10-47DF-A669-3861CEB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F250C-5BD2-4994-9021-75D7C7C8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187-830E-4C2F-92D1-CB2E278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F1D22-AC77-47D3-9538-DA77500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09BED-73E5-4E88-8235-C95F37D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7DD76-CA6F-441B-80AA-D8A7EDC7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75F6F-F052-46FA-9CCF-63249A4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2CFD-41FF-4F2D-9E44-F8E507CE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10D3C-DF05-4AEE-9EF8-363465EC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B5466-1CBF-47C5-8E7B-2B67372E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C5F15F-32CC-4760-867F-5844F8A7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2AB000-F882-4C0C-B24F-FC8F402C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FC1D5F-7D8D-4D40-ACD4-27BE30D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B788-96F9-465D-BAC1-58B6F939535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CF0B7FEC-8866-4611-845C-C68A41799D81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50DA-4D64-4794-BDAB-07E59C15EEF4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EE6-EB5A-4EB8-8469-6FD999218C0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74392FDB-3F83-4754-A6DA-5F194CB7607E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017F-9328-4760-8F77-9BF5FBFECE28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93B4-89D9-42F9-A377-172E6658340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B265AA43-CAFE-4131-B63B-A1CED2C2A30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F04F-3973-4650-B8E6-AAE24A9F9661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298D-DE80-479C-9710-EFEF2989393A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fld id="{1A11EB7D-8509-402A-94AB-CE64DE4BA7CC}" type="datetime10">
              <a:rPr b="0" lang="en-US" sz="2000" spc="-1" strike="noStrike">
                <a:solidFill>
                  <a:srgbClr val="ffffff"/>
                </a:solidFill>
                <a:latin typeface="Tw Cen MT"/>
              </a:rPr>
              <a:t>11:0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5F7A-C7DC-49E1-9833-0DE517E75FB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453E-7CE6-49F8-9EE3-8A704674FB9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65E55385-0ED1-4712-A57A-7E6D3F74FD9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6375-E350-4967-BC3D-992A5A6CE50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07B6-5D37-4E1E-B710-48122C0F1A7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E489B179-0442-4D71-ABCE-E1552B11FDE8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6E1F-E821-4983-953D-C50FB866BAE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1BB-DCB1-44E4-990B-E00DE6F0FB6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EBDC8DF9-5EF7-4E25-B7E5-59796A743B4F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42E3-B871-4143-A6F3-29F193B219D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DCC-162A-4C52-B1A8-E44B4ADB9CC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5BB2F5E5-A882-4E27-A787-D755239D3916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D720-5A08-4FB7-8874-93082183332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918-F095-4C07-ABC0-12D369779EC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F322B10F-C578-4064-AA2B-9C061BEA8CFA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A9A-BB98-406B-8FF4-C960982F25B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24DA-27C5-4753-BC4F-7A8FAB64217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EE50D177-CBF1-4F0E-BD72-38A46CF5D8F9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315E-33CD-4449-B5C2-4012E4E487B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B5A-4792-4B1D-A06C-98B7D3AD41F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C8AAAA7C-A8CC-4681-A938-88700DDF2768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11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6A3-D7FF-480C-9CC0-0696C2280F9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1"/>
          <p:cNvGrpSpPr/>
          <p:nvPr/>
        </p:nvGrpSpPr>
        <p:grpSpPr>
          <a:xfrm>
            <a:off x="298440" y="-42840"/>
            <a:ext cx="8852040" cy="3084480"/>
            <a:chOff x="298440" y="-42840"/>
            <a:chExt cx="8852040" cy="3084480"/>
          </a:xfrm>
        </p:grpSpPr>
        <p:pic>
          <p:nvPicPr>
            <p:cNvPr id="490" name="Rectangle 1" descr=""/>
            <p:cNvPicPr/>
            <p:nvPr/>
          </p:nvPicPr>
          <p:blipFill>
            <a:blip r:embed="rId1"/>
            <a:stretch/>
          </p:blipFill>
          <p:spPr>
            <a:xfrm>
              <a:off x="298440" y="-42840"/>
              <a:ext cx="885204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54200" y="384480"/>
              <a:ext cx="7940520" cy="22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bddc3"/>
                  </a:solidFill>
                  <a:latin typeface="Calibri"/>
                </a:rPr>
                <a:t>Федеральное государственное бюджетное образовательное учреждение высшего образования Донбасская аграрная академия.</a:t>
              </a:r>
              <a:br>
                <a:rPr sz="1400"/>
              </a:br>
              <a:br>
                <a:rPr sz="3600"/>
              </a:br>
              <a:br>
                <a:rPr sz="3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8" descr="C:\Documents and Settings\Mist.DEB-6015B618F20\My Documents\My Pictures\Microsoft Clip Organizer\j0387196.jpg"/>
          <p:cNvPicPr/>
          <p:nvPr/>
        </p:nvPicPr>
        <p:blipFill>
          <a:blip r:embed="rId2"/>
          <a:stretch/>
        </p:blipFill>
        <p:spPr>
          <a:xfrm>
            <a:off x="3456000" y="1779480"/>
            <a:ext cx="6084720" cy="5475240"/>
          </a:xfrm>
          <a:prstGeom prst="rect">
            <a:avLst/>
          </a:prstGeom>
          <a:ln w="0">
            <a:noFill/>
          </a:ln>
        </p:spPr>
      </p:pic>
      <p:sp>
        <p:nvSpPr>
          <p:cNvPr id="493" name="Footer Placeholder 9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981080" y="1981080"/>
          <a:ext cx="5334120" cy="274320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2f2f2"/>
                          </a:solidFill>
                          <a:latin typeface="Bookman Old Style"/>
                        </a:rPr>
                        <a:t>МЕЖДУНАРОДНОЕ ПРА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Text Box 71"/>
          <p:cNvSpPr/>
          <p:nvPr/>
        </p:nvSpPr>
        <p:spPr>
          <a:xfrm>
            <a:off x="3733920" y="6095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еевка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2E6-B3D5-4233-B22E-39335E85BEA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3" descr="17186183_145930146.pdf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1AA3-0046-461D-B1D7-338DFA142A7A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Дипломатическое и консульское право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8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"/>
          <p:cNvSpPr/>
          <p:nvPr/>
        </p:nvSpPr>
        <p:spPr>
          <a:xfrm>
            <a:off x="533520" y="7621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яя политика и дипломатия. Понятие и источники дипломатического и консульского права. Органов внешних сношений. Муниципальные власти иностранных отношений. Иностранных органов внешних с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атические представительства. Процедура для формирования и функции diplomatič этих отделений. Процедура назначения и отзыва руководителя diplomatič-tion представительства. Классы и ряды дипломатических представителей. Структура и персонал дипломатических миссий. Дипломатический корп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илегии и иммунитеты дипломатического представительства. Личные привилегии и иммунитеты дипломатических агентов и сотрудников. Привилегии и иммунитеты главы дипломатического представительства. В обязанности дипломатического агента по отношению к государ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миссия. Порядок назначения, функций и привиле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ские представительства. Понятие и функции консульских институтов. Виды консульских офисов и классы консулов. Консульский корпус. Консульских привилегий и иммуни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9173-5D4C-463C-ACD9-E6DE122C3F2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5" descr="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7D6-A342-499D-ACE1-506AC24DA753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Территория в международ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4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7"/>
          <p:cNvSpPr/>
          <p:nvPr/>
        </p:nvSpPr>
        <p:spPr>
          <a:xfrm>
            <a:off x="533520" y="76212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тически однородные типы территорий. Концепция и структура государственной территории. Государственные границы. Делимитации государственной границы. Делимитации территорий государств-членов. Способы изменения государственной терри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е морское право. Внутренних и территориальных водах. Международно-правового режима открытого моря. Экономическая зона. Континентального шельфа. Правовой режим международных каналов и проливов. Международных рек. Режим работы суда международной реки. Международный режим Антарктики. Правовой режим Ар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ой режим воздушного пространства и космического пространства. Сотрудничество в значительной степени извлекли от освоения космического пространства. Статус астронав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372-892D-4E51-9BCE-D0655DEEC86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3" descr="27206857_396915105.pdf-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57AD-9693-4D2B-A2AA-53015A91FB4B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Международное гуманитарное право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0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533520" y="76212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и задачи международного правового регулирования вооруженных конфликтов. Международно-правовые акты по вопросам вооруженных конфли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войны и его правовые последствия. Театр военных действий. Театр воен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вооруженных конфликтов. Правовой статус комбата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и методы ведения войны. Запрещенные и запрещенных средств и методов ведения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ая правовая защита жертв войны. Понятие жертв войны. Субсидии, правовая защита раненых пациентов. Международная правовая защита. Международная правовая защита гражданского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тралитет в войне. Постоянный нейтралитет. Нейтралитет в этой войне. Договорные нейтрал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войны и его правовые последствия. Перемирие и его типы. Капитуляция. Безоговорочной капит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вная ответственность физических лиц за преступления против мира и нации экономики, за военные преступления. Главных военных преступников. Непосредственных участников международных преступлений. Международные военные трибун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1D3-B138-4066-A701-B51967FABB9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5" descr="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C54A-C153-4A24-8464-16D7C04E67C8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Международное сотрудничество в борьбе с преступностью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6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7"/>
          <p:cNvSpPr/>
          <p:nvPr/>
        </p:nvSpPr>
        <p:spPr>
          <a:xfrm>
            <a:off x="533520" y="685800"/>
            <a:ext cx="8305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ы, лежащие в основе международного сотрудничества в борьбе с преступностью. Основные юридические формы сотрудничества между государствами-членами в эт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виды международных уголовных преступлений. Некоторые типы преступлений международного характера. Рабство, работорговля и другие формы торговли людьми. Незаконное производство и оборот наркотических средств и психотропных веществ. Пиратство на море (морской разбой). Незаконный захват воздушного судна или другими незаконными актами, направленными против безопасности гражданской авиации. Террор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идическая помощь по уголовным делам. Доставка (выдача) преступников. Правовые основания для экстрадиции. Вопросы экс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с преступностью и международной организации. Генеральной Ассамблеи ООН. Экономический и Социальный Совет. Конгрессы Организации Объединенных Наций по предупреждению преступности и обращению с правонарушителями. ООН, Комитет по предупреждению преступности нищеты и борьбы с ней. специализированные учреждения Организации Объединенных Н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уголовной полиции Интерпол Международная. Взаимодействие Интерпола с полицейскими службами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7E8A-0E41-484D-942A-BB6F37EBE03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6" descr="37119818_131738404.pdf-1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8" descr="C:\Documents and Settings\Mist.DEB-6015B618F20\My Documents\My Pictures\Microsoft Clip Organizer\j0387196.jpg"/>
          <p:cNvPicPr/>
          <p:nvPr/>
        </p:nvPicPr>
        <p:blipFill>
          <a:blip r:embed="rId1">
            <a:lum contrast="6000"/>
          </a:blip>
          <a:srcRect l="0" t="-7905" r="8801" b="-3314"/>
          <a:stretch/>
        </p:blipFill>
        <p:spPr>
          <a:xfrm>
            <a:off x="3459240" y="990720"/>
            <a:ext cx="5684760" cy="602460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4" descr="slide-0.jpg"/>
          <p:cNvPicPr/>
          <p:nvPr/>
        </p:nvPicPr>
        <p:blipFill>
          <a:blip r:embed="rId2"/>
          <a:stretch/>
        </p:blipFill>
        <p:spPr>
          <a:xfrm>
            <a:off x="1523880" y="762120"/>
            <a:ext cx="6242040" cy="4674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10E4-5A6B-43C1-9E9A-C260D7E071C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  <a:ea typeface="宋体"/>
              </a:rPr>
              <a:t>Содержание учебного материала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одуль 1 Теоретические принципы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1. Понятие, сущность и системы международного публичного прав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2. Субъекты международного прав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3. Право международных догово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4. Право международных организаций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одуль 2 Специальная часть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5. Дипломатическое и консульское прав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6. Территория в международном праве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7. Международное гуманитарное прав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8. Международное сотрудничество в борьбе с преступностью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9" name="Рисунок 4" descr="mezhdunarodnie_otnosheniya.jpg"/>
          <p:cNvPicPr/>
          <p:nvPr/>
        </p:nvPicPr>
        <p:blipFill>
          <a:blip r:embed="rId1"/>
          <a:stretch/>
        </p:blipFill>
        <p:spPr>
          <a:xfrm>
            <a:off x="6778800" y="2968560"/>
            <a:ext cx="2145960" cy="1274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27E1-2CC5-4D45-B55A-D5DEE05254F1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онятие, сущность и системы международного публич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2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03" name="TextBox 7"/>
          <p:cNvSpPr/>
          <p:nvPr/>
        </p:nvSpPr>
        <p:spPr>
          <a:xfrm>
            <a:off x="533520" y="1295280"/>
            <a:ext cx="830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международного права, ее особенности и социального характера. Этапы формирования современного международного права. Особенности международного права. В системе международного права. Источники международного права, их классификации и общие характерис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-правовые отношения. Особенности норм международного права, порядок их создания и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значения международного права и в рамках закона. Отношение международного публичного и частного международ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инципы международного права. Классификация основных принципов половины. Принципы Устава Организации Объединенных Наций. Основные принципы мира и международной безопасности и семьи. Основные принципы международного сотрудничества. Основные принципы защиты прав народов, Наций и людьми. Роль принципов международного права в развитие международных отношений и международ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0091-4DD6-4DC1-97B6-C10593EE0AD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еждународное право – это совокупность юридических принципов и норм, регулирующих отношения между государствами и другими субъектами международного права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Система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295280" y="2286000"/>
          <a:ext cx="6629400" cy="426708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</a:tblGrid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ждународное воздуш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пломатическое и консульск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ждународное морск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гуманитар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уголов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право охраны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международных дого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международных 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прав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EF1-5816-4E6F-B516-22623D2A64CB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Субъекты международ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9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10" name="TextBox 7"/>
          <p:cNvSpPr/>
          <p:nvPr/>
        </p:nvSpPr>
        <p:spPr>
          <a:xfrm>
            <a:off x="533520" y="129528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виды субъектов международного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является основным субъектом международного права. Государственный суверенитет: понятие и признаки. Территория в международном праве. На территории, которая находится под суверенитетом государства. Международные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международной правосубъектности государства и народы, которые борются за независимость. Международная правосубъектность юридических и физических лиц. Международные организации: концепции, типы и их роль в современных международных отношениях. Личность международ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е юридическое признание: концепция и типы. Способы принятия. Между национальными правопреемства государств. Причины возникновения правопрее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404-3355-46D6-998D-4CC6205AA83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Субъекты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3880" y="1752480"/>
          <a:ext cx="6172200" cy="373392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веренные (первич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суверенные (производ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ющиеся за независимость н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оподобные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AB49-51CF-46E5-A6B6-9CE6AAB5CD53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раво международных договоров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6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7"/>
          <p:cNvSpPr/>
          <p:nvPr/>
        </p:nvSpPr>
        <p:spPr>
          <a:xfrm>
            <a:off x="533520" y="762120"/>
            <a:ext cx="8305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договоров, ее источники и кодификация. Заключать договоры. Стороны договора. Право на участие в соглашении. Типы договоров. Контракт и третьим государ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 соглашений. Порядок заключения договоров. Полномочий. Стадии контрактов. Установления аутентичности текста. Подписание соглашения. Ратификация Договора. Утверждение соглашения. Присоединение к договорам секретариат. Пред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и структура договоров. Язык контр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договоров. Принцип «соглашения должны осуществляться.» Внутригосударственный закон и присоединения к международным договорам. Действие договора во времени и пространстве. Расширение, реконструкция контра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кование Соглашения. Аутентичное толкование. Международное толкование. Внутригосударственное толкование. Основные принципы тол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действительности и недействительности договора. Последствия недействительности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и и методы завершения. Срок действия договоров - Секретариата. Исполнение контракта. О денонсации Соглашения. Отмена международных соглашений. Прекращение существования государства или изменять его статус. Коренное изменение обстоятельств. Приостановление действия соглашения. Влияние войны на догов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512-7B23-4702-85D8-ADBD183C5BF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5" descr="img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798-925E-4285-A803-AB55C948844C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раво международных организаций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2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7"/>
          <p:cNvSpPr/>
          <p:nvPr/>
        </p:nvSpPr>
        <p:spPr>
          <a:xfrm>
            <a:off x="533520" y="762120"/>
            <a:ext cx="830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источники права международных организаций. Классификация inte Аль. Процедура для формирования и прекращения деятельности международных организаций. Компетенция, функции и полномочия международ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ство в международных организациях. Органы международной организации, порядок их формирования, компетенция и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Объединенных Наций: цели и принципы деятельности. История создания Организации Объединенных Наций. Системы ООН. Членство в Организации Объединенных Наций. Основные органы Организации Объединенных Наций. Учреждения ООН-Ваня б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региональных, региональных и международных организаций. Международные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0:00Z</dcterms:created>
  <dc:creator/>
  <dc:description/>
  <dc:language>en-US</dc:language>
  <cp:lastModifiedBy/>
  <dcterms:modified xsi:type="dcterms:W3CDTF">2023-08-22T10:45:42Z</dcterms:modified>
  <cp:revision>1</cp:revision>
  <dc:subject/>
  <dc:title>LLP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9181033</vt:lpwstr>
  </property>
</Properties>
</file>